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AB5C-159E-40CC-B733-55F3FE4A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8D1-053B-4CB6-B631-1E72AE51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A2B-01AF-43CB-BEF8-A12FF4BB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9D1-E3FB-4AC5-BC5B-7BB4A449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39CD-4850-47B4-BB3E-E97E8F87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1C6E-EFE9-4D2C-A966-F2A3767F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BB7C-9C7B-4295-B97C-F9FEB028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80B-B60E-434F-88BF-EB618B70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77D-8860-440E-B0AF-974236BD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5DA-692D-401B-BAC7-37E55A60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3480-6DEF-4D27-BDE2-F60ABF45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FF8-C4E0-43E6-A024-CFFA9371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B739-BF75-460F-B453-2A94320CF0B5}" type="slidenum">
              <a:rPr b="0" lang="da-D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Wide Lat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pid=174995&amp;id=1809975956&amp;op=1&amp;view=global&amp;subj=157058091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539640" y="0"/>
            <a:ext cx="8604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anna Due Anderse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10" descr="14760_1140906854109_1570580913_30306526_6531908_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2060640"/>
            <a:ext cx="1520640" cy="2131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2"/>
          <p:cNvSpPr/>
          <p:nvPr/>
        </p:nvSpPr>
        <p:spPr>
          <a:xfrm>
            <a:off x="1332000" y="2201760"/>
            <a:ext cx="4680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ello my name is Nann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 am in class 7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 have a mother, a father and two brother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y three best friends named Emilie, Freja and Rikk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my spare time I go to film school youth, sailing and I am a teacher of dram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 have two turtles, named Speedy and Mini. </a:t>
            </a:r>
            <a:endParaRPr b="0" lang="en-US" sz="24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Wide Lat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9:09:11Z</dcterms:created>
  <dc:creator>02a13</dc:creator>
  <dc:description/>
  <dc:language>en-US</dc:language>
  <cp:lastModifiedBy>02a13</cp:lastModifiedBy>
  <dcterms:modified xsi:type="dcterms:W3CDTF">2010-03-02T08:46:48Z</dcterms:modified>
  <cp:revision>2</cp:revision>
  <dc:subject/>
  <dc:title>Dias nummer 1</dc:title>
</cp:coreProperties>
</file>